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637-D090-47D7-9377-68BF8A59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4203360"/>
            <a:ext cx="8226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D85-FD4D-4676-B449-45E7F9E2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420336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420336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372-2E54-49C6-85B9-295693E3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213372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213372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420336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420336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420336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9EB-E522-47BC-8D1E-FBFEF427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B4B3-0026-4FE7-959C-E2A24504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21F6-91F0-477B-BC4A-771A1AFE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9EDF-2822-4C8E-9911-A7EE47D3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732F-731A-48E1-94F6-F712E932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1CE3-07FB-4D05-A71A-A6C2F9CF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5400" y="68544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B059-37E5-4DE8-B5D8-4567AA96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5400" y="420336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CFDF-492D-4615-B9B8-C0D2C4D4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1949-23CF-43AA-A206-61AFD814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1000" y="420336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49F4-F107-4546-A6ED-5EFE8F69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400" y="4203360"/>
            <a:ext cx="8226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0CC8-78BC-4E8C-946F-5125E34C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5400" y="4203360"/>
            <a:ext cx="8226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09C2-EFA8-4324-BF5E-4F5D73DD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5400" y="420336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1000" y="420336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AFA4-0DED-4CB7-9B44-C6960AB1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6760" y="213372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18120" y="213372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5400" y="420336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6760" y="420336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18120" y="4203360"/>
            <a:ext cx="2648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A487-38BA-4B73-A3E5-E083F2BC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543-E850-4143-A4A7-558C97C2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9B2-F579-4DC0-90E2-8FC80B5D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313A-2ED0-4386-B1E0-8EB61B3D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68544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640-15B2-4A49-9154-607829CC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420336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36B-3AB7-4545-93F5-FA3B1C90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420336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D31-B7E5-4E42-9DC9-2C9D9C51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2133720"/>
            <a:ext cx="4014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4203360"/>
            <a:ext cx="8226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0C1-6DC2-4148-800D-5039B4BF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C40A-D8B7-4B62-B9D3-8382EBD2E4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BAAD-8602-40A9-B099-2D11D0F842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984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28600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Optimal Asset Allocation for Michael Price Student Investment Fund (MPSIF)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Marco Ru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Ricky S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Sara X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Data Input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4037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59230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Run Premium Solver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4037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362320" y="2438280"/>
            <a:ext cx="5788080" cy="2411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V="1">
            <a:off x="4191120" y="487656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66280" y="5638680"/>
            <a:ext cx="58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PSIF fund volatility has to be less than the benchm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Run SolverTable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4037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I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4864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Flat Efficient Frontier?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8080" y="1546200"/>
            <a:ext cx="7467840" cy="5311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276720" y="4724280"/>
            <a:ext cx="39290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Run Crystal Ball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359320" cy="1774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571760" y="3962520"/>
            <a:ext cx="5359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Compare portfolio returns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76960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Resulting Stats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funds are highly correlated, there is no significant diversification benefit by having them 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ortfolio of 80% small cap and 20% fixed income has the highest expected increase in val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ng 10% in growth and value, 50% in small cap, and 30% in fixed income is the second b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urrent portfolio is better than the portfolio we obtain when we optimize historical index retur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ter divers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Resulting Stats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we assume that active management will not be positive in the future, the expected increase in the portfolio is similar for all portfol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ly managed portfolios have higher expected g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ero correlation among strategies offers diversification benef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Limitations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90296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s in the short term may not be normally 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s in the past may not reflect returns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most strict form of efficient market theory, active porfolio management should NOT beat the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ac458"/>
                </a:solidFill>
                <a:latin typeface="Times New Roman"/>
              </a:rPr>
              <a:t>Q&amp;A</a:t>
            </a:r>
            <a:endParaRPr b="0" lang="en-US" sz="9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3209400"/>
            <a:ext cx="822636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Agenda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Background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PSIF is a family of funds managed directly by NYU Stern MBA students. The fund, part of the overall NYU endowment, was established in 1999 through a generous gift from Michael Price, managing partner, MFP Investors, LLC and former chairman of Franklin Mutual Series fu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und is divided into three equity funds-</a:t>
            </a:r>
            <a:r>
              <a:rPr b="1" lang="en-US" sz="2000" spc="-1" strike="noStrike">
                <a:solidFill>
                  <a:srgbClr val="fac458"/>
                </a:solidFill>
                <a:latin typeface="Times New Roman"/>
              </a:rPr>
              <a:t>Grow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ac458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ac458"/>
                </a:solidFill>
                <a:latin typeface="Times New Roman"/>
              </a:rPr>
              <a:t>Small Cap</a:t>
            </a:r>
            <a:r>
              <a:rPr b="0" lang="en-US" sz="2000" spc="-1" strike="noStrike">
                <a:solidFill>
                  <a:srgbClr val="fac45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one </a:t>
            </a:r>
            <a:r>
              <a:rPr b="1" lang="en-US" sz="2000" spc="-1" strike="noStrike">
                <a:solidFill>
                  <a:srgbClr val="fac458"/>
                </a:solidFill>
                <a:latin typeface="Times New Roman"/>
              </a:rPr>
              <a:t>fixed inco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und, total value of $2 mill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four individual funds, the performance benchmark used are Russell 1000 Growth Index, Russell 1000 Value Index, Russell 2000 and the Vanguard Total Bond Inde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PSIF is required to pay an annual </a:t>
            </a:r>
            <a:r>
              <a:rPr b="1" lang="en-US" sz="2000" spc="-1" strike="noStrike">
                <a:solidFill>
                  <a:srgbClr val="fac458"/>
                </a:solidFill>
                <a:latin typeface="Times New Roman"/>
              </a:rPr>
              <a:t>5% divide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 the University of Oklahoma Price School of Busin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Formul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identify asset allocation among the four funds with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ighest monthly retur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ceptable amount of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ssess the value of active portfolio management by comparing the returns of active management vs. passive inves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Formul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 Vari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 of asset allocated to growth, value, small cap and fixed income funds respect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Formul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 deviation of return cannot exceed those of the benchm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inimum 10% allocation is required in each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ximum of 50% allocation is allowed in each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t must be 100% allocated among growth, value, small cap and fixed income f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Assumptions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75452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index returns and active management returns are normally dis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x returns have the same correlation as they did in the p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e management returns are not correlated (skill in one fund has nothing to do with the skill in ano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Model Overview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2133360"/>
            <a:ext cx="8383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years of MPSIF fund family monthly retu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years of benchmark monthly retur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Method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 model derives monthly mean and standard deviations of retu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Premium Solver to derive the optimal al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SolverTable to present the optimal allocation at different levels of risk tole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685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Model Overview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set allocation with the highest monthly return given a level of risk 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frontier of asset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21:43:27Z</dcterms:created>
  <dc:creator>Stern School of Business</dc:creator>
  <dc:description/>
  <dc:language>en-US</dc:language>
  <cp:lastModifiedBy>Marco Ruiz</cp:lastModifiedBy>
  <dcterms:modified xsi:type="dcterms:W3CDTF">2006-04-29T02:26:59Z</dcterms:modified>
  <cp:revision>63</cp:revision>
  <dc:subject/>
  <dc:title>Slide 1</dc:title>
</cp:coreProperties>
</file>